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4800" y="6337440"/>
            <a:ext cx="3713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1st  eVSAG meeting, Westerbork, November 2006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1080" cy="70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1368360" cy="73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774800"/>
            <a:ext cx="99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Times New Roman"/>
              </a:rPr>
              <a:t>e-EVN: practical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5360" y="4241880"/>
            <a:ext cx="36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rpad Szom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33640" y="880920"/>
            <a:ext cx="8416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imes New Roman"/>
              </a:rPr>
              <a:t>Current/future developmen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0720" y="1603440"/>
            <a:ext cx="82756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6720" y="1819440"/>
            <a:ext cx="82756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scope status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mpilation of available telescop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ive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apability to change order or length of observation of sources during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b-based amplitude cal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VN calibration data not necessarily up-to-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Logistical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Not only useful for e-VLBI (e.g. polarisation calib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86080" y="533520"/>
            <a:ext cx="8416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Connectivity improvements: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120" y="1362240"/>
            <a:ext cx="82756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 fontScale="92000"/>
          </a:bodyPr>
          <a:p>
            <a:pPr marL="262800" indent="-26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Protoco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lbi-udp under development in Manchester  (Richard Hughes-Jones, Ralph Spencer &amp; collabor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CP modifications (Sansa, Kettenis). Issues with Mark5A code and newer Linux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SI-e. Needs Mark5B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protocols (tsunami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Lightpaths across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fordable (probably for free) and available right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sily expan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6440" y="46008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imes New Roman"/>
              </a:rPr>
              <a:t>Hardware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9000" y="1249200"/>
            <a:ext cx="7858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New control computer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laris AMD servers, redundant power su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changeable for maximum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ut down dramatically on (re-)star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ark5 up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herboards, memory, power su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rk5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: serial links, C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38320" y="752400"/>
            <a:ext cx="413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85880" y="2378160"/>
            <a:ext cx="7993080" cy="3752640"/>
            <a:chOff x="785880" y="2378160"/>
            <a:chExt cx="7993080" cy="3752640"/>
          </a:xfrm>
        </p:grpSpPr>
        <p:sp>
          <p:nvSpPr>
            <p:cNvPr id="126" name=""/>
            <p:cNvSpPr/>
            <p:nvPr/>
          </p:nvSpPr>
          <p:spPr>
            <a:xfrm>
              <a:off x="1073160" y="2378160"/>
              <a:ext cx="1871640" cy="720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External L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520" y="3962520"/>
              <a:ext cx="1224000" cy="720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78600" y="4033800"/>
              <a:ext cx="936720" cy="576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29520" y="4033800"/>
              <a:ext cx="649440" cy="576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k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29520" y="3241800"/>
              <a:ext cx="649440" cy="5760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k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29520" y="4826160"/>
              <a:ext cx="649440" cy="5760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k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10600" y="46101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36440" y="597852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5880" y="576252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10 G 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5520" y="3098880"/>
              <a:ext cx="122400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9520" y="432288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913520" y="345744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13520" y="43228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13520" y="4322880"/>
              <a:ext cx="216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49520" y="3962520"/>
              <a:ext cx="1224000" cy="720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73520" y="43228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4781160" y="4069800"/>
              <a:ext cx="71640" cy="1728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05160" y="504180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Dynamic capabilities through D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56080" y="351324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16 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5200" y="324180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 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2280" y="894960"/>
            <a:ext cx="860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c0128"/>
                </a:solidFill>
                <a:latin typeface="Times New Roman"/>
              </a:rPr>
              <a:t>Network upgrade at JIVE: SX optics, router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Outlin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760" y="2863800"/>
            <a:ext cx="7756560" cy="29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rk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urrently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1249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Work packages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00200" y="1139760"/>
            <a:ext cx="775656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ndard e-VLBI correlator m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Wall-clock time vs ROT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Centralized contro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apid response/ToO function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Real-time monitoring/feedback/analysi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On-the-fly adjustment of observational/correlator parameter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Improved amplitude calibration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a transpor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Guaranteed (high) bandwidth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Transport protocols (modified TCP, UDP-based, VSI-e…)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dwar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New control computers (reliability, speed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Replacement of SUs (ageing, failing, rusting, unmaintainable, unfixable…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Networking hardware (router, interface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5280" y="1630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e-VLBI correlator mode: control interfaces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9760" y="1200240"/>
            <a:ext cx="7732440" cy="395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08240" y="3535200"/>
            <a:ext cx="839304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4680" y="5392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Monitoring tools: Integrating fringe display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3280" y="1674720"/>
            <a:ext cx="622764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Monitoring tools: Data status monitor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2120" y="1157400"/>
            <a:ext cx="6958080" cy="537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08000" y="1150920"/>
            <a:ext cx="7067520" cy="5396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01640" y="1014480"/>
            <a:ext cx="6996240" cy="541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79720" y="944640"/>
            <a:ext cx="7000920" cy="540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463840" y="857160"/>
            <a:ext cx="7102440" cy="54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1560" y="1281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Rapid adjustment of correlator params: vex editor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4378320" cy="3732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55840" y="1414440"/>
            <a:ext cx="4378320" cy="373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830680" y="1468440"/>
            <a:ext cx="6825960" cy="51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3000" y="377640"/>
            <a:ext cx="8535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(near) Real-time analysis: streamlining of post processing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7040" y="2016000"/>
            <a:ext cx="834372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235080"/>
            <a:ext cx="802332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Web-based Post-processing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2880" y="1015920"/>
            <a:ext cx="4848120" cy="432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1560" y="1209600"/>
            <a:ext cx="4849560" cy="433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27200" y="1554120"/>
            <a:ext cx="5438880" cy="431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200320" y="1758960"/>
            <a:ext cx="5379840" cy="426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759040" y="2006640"/>
            <a:ext cx="5388120" cy="4268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368520" y="2090880"/>
            <a:ext cx="5356440" cy="4243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4067280" y="2104920"/>
            <a:ext cx="5321160" cy="42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8:22:56Z</dcterms:created>
  <dc:creator>parsley</dc:creator>
  <dc:description/>
  <dc:language>en-US</dc:language>
  <cp:lastModifiedBy>System Management</cp:lastModifiedBy>
  <cp:lastPrinted>2001-03-09T11:05:18Z</cp:lastPrinted>
  <dcterms:modified xsi:type="dcterms:W3CDTF">2006-11-27T16:39:02Z</dcterms:modified>
  <cp:revision>258</cp:revision>
  <dc:subject/>
  <dc:title>eVLBI Progress</dc:title>
</cp:coreProperties>
</file>